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5F03-7872-4353-8843-D4CDE7C51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458-19D2-41C6-BA33-A2A173B6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91DE-4FA6-4FD8-BD22-792AB3C27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090-9BA3-4EF7-97EB-71E2605AA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40D-1F77-4484-AB22-0B0D672CC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85A1-FCB0-46DD-91FF-292A8BD37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AE2-4B3F-4849-8DB1-EDB7A4FB5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CF5-209D-46FE-85AA-0F33CA336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49ED-1107-47C8-B42D-FF987350B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B23-C087-43A3-9F04-0D0ECE48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FB1-294A-4447-88FB-5F3D513A2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F46E-6F35-4F1F-9690-D3CA0CDE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BBB6-F342-4180-8CE3-625F78DFCD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xx.com/" TargetMode="External"/><Relationship Id="rId2" Type="http://schemas.openxmlformats.org/officeDocument/2006/relationships/hyperlink" Target="http://www.ddddd.com/" TargetMode="External"/><Relationship Id="rId3" Type="http://schemas.openxmlformats.org/officeDocument/2006/relationships/hyperlink" Target="http://www.uuu.com/" TargetMode="External"/><Relationship Id="rId4" Type="http://schemas.openxmlformats.org/officeDocument/2006/relationships/hyperlink" Target="http://www.eeee.com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760" y="217440"/>
            <a:ext cx="861048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2200" y="30492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okman Old Style"/>
              </a:rPr>
              <a:t>Introducción a la Programac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63040" y="8380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Bookman Old Style"/>
              </a:rPr>
              <a:t>Repasando la Histori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9200" y="14698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John Ala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03440" y="1471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Robert Kowa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8640" y="3984480"/>
            <a:ext cx="642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Para acceder a la bibliografía resumida de cada uno de ellos presione click en cada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495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560" y="4572000"/>
            <a:ext cx="393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inks relaciona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www.xxxx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www.ddddd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www.uuu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www.eeee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0320" y="5943600"/>
            <a:ext cx="70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Si está interesado en recibir información periódica envíe un mail a la siguiente casilla de corre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OSGENIOSMATEMATICOS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1:19:18Z</dcterms:created>
  <dc:creator>Administrator</dc:creator>
  <dc:description/>
  <dc:language>en-US</dc:language>
  <cp:lastModifiedBy>Administrator</cp:lastModifiedBy>
  <dcterms:modified xsi:type="dcterms:W3CDTF">2010-04-06T01:51:35Z</dcterms:modified>
  <cp:revision>3</cp:revision>
  <dc:subject/>
  <dc:title>Slide 1</dc:title>
</cp:coreProperties>
</file>